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165-A1F5-43EB-8D49-151DAACB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1E5-D7F8-4D94-A4C3-C86526E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ECA-A6BB-4689-A41D-01E9061B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709-D4B7-4985-BEA5-5E2D441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04A-B1BD-4ADE-A3BF-E0485FC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53C-BDC6-40FE-A9CB-7FA9638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77B-073F-461F-B6F2-F414E3C5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686-5634-49DA-99C8-95D91A5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F27-9723-4628-B58B-B2EE3284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BC4-94C7-42C5-9C4F-BD267D2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D9B-A14F-44EC-B54B-0C81616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4A5-16A8-4837-955E-6B4D61F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C664-B01E-43D6-BA06-0C926171D3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836640"/>
            <a:ext cx="7488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91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Безопасное поведение на водоёмах в осенне-зимний период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делать, если вы провалились в холодную воду: 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не паникуйте, не делайте резких движений, стабилизируйте дыхание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попытайтесь осторожно налечь грудью на край льда и забросить одну, а потом и другую ноги на лед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если лед выдержал, перекатываясь, медленно ползите к берегу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</a:rPr>
              <a:t>ползите в ту сторону – откуда пришли, ведь лед здесь уже проверен на прочность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075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дьте осторожны и помните: строгое выполнение правил поведения и мер безопасности на льду сохранит вашу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3089"/>
          <p:cNvPicPr/>
          <p:nvPr/>
        </p:nvPicPr>
        <p:blipFill>
          <a:blip r:embed="rId1"/>
          <a:stretch/>
        </p:blipFill>
        <p:spPr>
          <a:xfrm>
            <a:off x="2916360" y="2781360"/>
            <a:ext cx="3671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 наступлением первых заморозков, когда вода в реках, озерах, прудах и других водоемах покрывается льдом, начинается период ледостава. Нельзя забывать об опасности, которую таят в себе только что замерзшие водоемы. Первый лед только на вид кажется прочным, а на самом деле он тонкий, слабый и не выдерживает тяжести не только взрослого человека, но и ребенка. Поэтому не торопитесь выходить на тонкий лед водоемов. Необходимо подождать, когда лед под воздействием мороза станет толще и прочне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Рисунок 2" descr="http://www.serpuhov.ru/spaw/images/index/led_nara.jpg"/>
          <p:cNvPicPr/>
          <p:nvPr/>
        </p:nvPicPr>
        <p:blipFill>
          <a:blip r:embed="rId1"/>
          <a:stretch/>
        </p:blipFill>
        <p:spPr>
          <a:xfrm>
            <a:off x="2482920" y="2637000"/>
            <a:ext cx="51591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21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Нельзя выходить на лед без разрешения взрослы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Переходить реку, озеро можно только в устойчивую погоду, по перепра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. Если переправы нет, то надежнее всего идти по свежим чужим следам, так как дорога провере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. Если свежих чужих следов нет, то: с берега наметить свой маршрут; взять палку и идти, проверяя прочность ль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. Если после удара палкой на льду появится вода, то значит, лед непрочен, надо возвратиться наз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6. Если вы выбрались из пролома: нельзя вставать на ноги, откатитесь от полыньи, ползите в ту сторону, откуда пришли, так как там прочность льда провере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Будьте осторожны до самого берега! Лишь вступив на берег, надо бежать, чтобы согреться и быстрее попасть в теплое мес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17007"/>
          <p:cNvPicPr/>
          <p:nvPr/>
        </p:nvPicPr>
        <p:blipFill>
          <a:blip r:embed="rId1"/>
          <a:stretch/>
        </p:blipFill>
        <p:spPr>
          <a:xfrm>
            <a:off x="4859280" y="333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313"/>
          <p:cNvPicPr/>
          <p:nvPr/>
        </p:nvPicPr>
        <p:blipFill>
          <a:blip r:embed="rId2"/>
          <a:stretch/>
        </p:blipFill>
        <p:spPr>
          <a:xfrm>
            <a:off x="6864480" y="333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5158"/>
          <p:cNvPicPr/>
          <p:nvPr/>
        </p:nvPicPr>
        <p:blipFill>
          <a:blip r:embed="rId3"/>
          <a:stretch/>
        </p:blipFill>
        <p:spPr>
          <a:xfrm>
            <a:off x="4859280" y="2421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981"/>
          <p:cNvPicPr/>
          <p:nvPr/>
        </p:nvPicPr>
        <p:blipFill>
          <a:blip r:embed="rId4"/>
          <a:stretch/>
        </p:blipFill>
        <p:spPr>
          <a:xfrm>
            <a:off x="6875640" y="2436840"/>
            <a:ext cx="1800000" cy="185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17"/>
          <p:cNvPicPr/>
          <p:nvPr/>
        </p:nvPicPr>
        <p:blipFill>
          <a:blip r:embed="rId5"/>
          <a:stretch/>
        </p:blipFill>
        <p:spPr>
          <a:xfrm>
            <a:off x="5508720" y="4508640"/>
            <a:ext cx="28083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5112000" cy="1433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300852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Если на ваших глазах человек провалился под лед: крикните ему, что идете на помощь; ползите к полынье, широко раскинув руки; если возможно, то подложите под себя дос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Теоретически надо действовать так: не доползая до полыньи, протяните пострадавшему лестницу или шес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На практике: посмотри вокруг, нет ли какого-нибудь предмета, чтобы протянуть пострадавшему (ремень, шарф, доска). Нельзя подползать к полынье ближе, чем на 3-4 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Если несколько человек могут прийти на помощь, то: двое или трое людей, взяв друг друга за ноги, ложатся на лед цепочкой и двигаются к пролому и вытащив тонущего на лед ползком выбираются из опасной зо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Нельзя играть на покатом берегу реки, озе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На льду нельзя игр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Picture background"/>
          <p:cNvPicPr/>
          <p:nvPr/>
        </p:nvPicPr>
        <p:blipFill>
          <a:blip r:embed="rId2"/>
          <a:stretch/>
        </p:blipFill>
        <p:spPr>
          <a:xfrm>
            <a:off x="3708360" y="1844640"/>
            <a:ext cx="5040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4038480" cy="66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ила перехода через реку на лыж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есть проложенная лыжня, то пересекай реку по этой лыж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лыжни нет, то идите по целине, но при этом крепления лыж отстегните, палки держите в руках, не накидывая петли на кисти рук, рюкзак рекомендуется волочить за собой на верев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несколько человек переходит реку (без переправы), то идти надо друг за дру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вы пересекаете реку группой, то расстояние между лыжниками должно быть не менее 5 метр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 знать телефоны экстренных служб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тобы позвонить с мобильного телефона на номера 01, 02, 03 или 04, необходимо добавить в конце цифру «0» 010, 020, 030, 040 для пользователей сетей МТС, МЕГАФОН и БИЛАЙН. Для пользователей сетей ТЕЛЕ-2 необходимо добавить «*» 01*,02*,03*,04*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Безопаснее всего переходить по прозрачному с зеленоватым или синеватым оттенком льду Прежде чем двигаться по льду, надо убедиться в его прочности. Для этого надо воспользоваться твердой палкой. При движении по замерзшему водоему шестом (палкой) ударяют по льду впереди и по обе стороны от себя по несколько раз в одно и тоже место. Если после 2-3 ударов вода не показалась, значит лед надежен. Если же лед пробивается и на нем появляется вода, нужно немедленно остановиться и повернуть обратно, но не торопясь и стараясь идти, не отрывая ступни ото льда (скользящим шагом). При движении обратно продолжать проверять лед шес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14372"/>
          <p:cNvPicPr/>
          <p:nvPr/>
        </p:nvPicPr>
        <p:blipFill>
          <a:blip r:embed="rId1"/>
          <a:stretch/>
        </p:blipFill>
        <p:spPr>
          <a:xfrm>
            <a:off x="2627280" y="3732120"/>
            <a:ext cx="38163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тегорически запрещается: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</a:rPr>
              <a:t>испытывать прочность льда ударом ноги по льду - в этом случае можно сразу провалиться в воду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</a:rPr>
              <a:t>Не разрешается переходить водоем в одиночку, т.к. в случае провала под лед, помощи ждать не от кого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</a:rPr>
              <a:t>Также нежелательно ходить по льду в темное время су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</a:rPr>
              <a:t>Категорически запрещается катание на коньках, на санках, игра в хоккей на тонком неокрепшем льду. Не рекомендуется кататься на замерзшем льду одно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Изображение 1" descr="IMG_256"/>
          <p:cNvPicPr/>
          <p:nvPr/>
        </p:nvPicPr>
        <p:blipFill>
          <a:blip r:embed="rId1"/>
          <a:stretch/>
        </p:blipFill>
        <p:spPr>
          <a:xfrm>
            <a:off x="611280" y="549360"/>
            <a:ext cx="80802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18:26Z</dcterms:created>
  <dc:creator>MICHAEL</dc:creator>
  <dc:description/>
  <dc:language>en-US</dc:language>
  <cp:lastModifiedBy>Лёха</cp:lastModifiedBy>
  <dcterms:modified xsi:type="dcterms:W3CDTF">2026-02-08T12:07:33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F31FC7E057A4A2B87F0A04AA02FC165_12</vt:lpwstr>
  </property>
  <property fmtid="{D5CDD505-2E9C-101B-9397-08002B2CF9AE}" pid="3" name="KSOProductBuildVer">
    <vt:lpwstr>1049-12.2.0.13306</vt:lpwstr>
  </property>
  <property fmtid="{D5CDD505-2E9C-101B-9397-08002B2CF9AE}" pid="4" name="NXTAG2">
    <vt:lpwstr>000800c4160000000000010243100207f6000400038000</vt:lpwstr>
  </property>
</Properties>
</file>